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68C1-D4BE-408C-A4B2-27D0907C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8C42-D584-4241-BDC6-11AB15BE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B484-D1EA-4298-98B6-DAA796B24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CD8B-BA20-4C93-9D1F-1809F6062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3F7E-5B3F-4015-83B1-E7FF0EC0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249F-A21D-4F20-B1F4-6E9AE17D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81C6-747E-4C08-B6D1-B811930B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8B26-6322-4017-9D41-6F18DD6B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36BD-31A2-4239-ADE2-3C75C342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F6C3-382D-4ADC-9374-71F5438E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C195-92B5-4F68-B271-B571842E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D7D4-49CD-4BEE-85C0-87782C97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D46B-6DED-4B6D-9D75-D70632349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36666_ph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174600"/>
            <a:ext cx="8839440" cy="11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مراحمِ الرب أُغني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عن حقِّهِ يُخبرُ فم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زال مخاوفي مني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منحني سعادة أبد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ه ذراعُ القدرةِ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له يمينُ العزَّة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سمهُ ربُّ النعمةِ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مَن قد أعطاني الحر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وك الأرضِ يسجدون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له بخشوعٍ يخضع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َن غيرُهُ غلبَ المَنون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يسوعُ فادي البشر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َن في السماءِ يعادِلُهُ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مَن على الأرضِ يشابِهُه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ـهابَتـُهُ تكلـِّلــــــُهُ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إبنُ الأحضان الأز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3:59:33Z</dcterms:created>
  <dc:creator>USER</dc:creator>
  <dc:description/>
  <dc:language>en-US</dc:language>
  <cp:lastModifiedBy>USER</cp:lastModifiedBy>
  <dcterms:modified xsi:type="dcterms:W3CDTF">2002-10-31T14:18:01Z</dcterms:modified>
  <cp:revision>10</cp:revision>
  <dc:subject/>
  <dc:title>PowerPoint Presentation</dc:title>
</cp:coreProperties>
</file>